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6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2.wmf" ContentType="image/x-wmf"/>
  <Override PartName="/ppt/media/image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8.png" ContentType="image/png"/>
  <Override PartName="/ppt/media/image1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689-3CDA-40AC-9E36-6625F21A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4CB-F49B-46D9-A1C1-0BA2972C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280-F4CD-4ECF-9BAB-E04EC8BC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CE4-4DB2-4BA9-9682-E313D688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1C7A-1D5A-410B-81BB-636D9445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B7B3-91E2-41BD-95C3-3E61D49A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A301-02DB-4C58-80DA-A3A7A66E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43BA-7126-4BB2-83BE-388B3BC6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A114-F638-4EAA-A978-D3436EEE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1ECE-F85B-42BC-B210-B0266FC0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C03A-B22E-4D2A-8123-671B576C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F5C-28DB-4944-821D-06B3C0AE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0559-D21E-4DFB-95B4-328447CC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83F3-3BE0-4BDE-9A3A-DABC9AF7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FB3A3-D13B-459D-A6C4-D93D13F3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C275-62B3-47D8-8E8D-88940EFF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E873-74EB-4AEB-A08B-C1D8B701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C631-221A-402C-9767-E4DA685F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B219-2A82-466E-8D16-20CDCE66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35D7-ACC8-4F9A-B9D8-41422096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BD36C-125E-408F-92CC-04CF923B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6E5A7-F072-40F5-91CA-11E0BB22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CE8-8C4C-475A-BF38-E7EE4A80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7496F-9646-47ED-82EF-810DF830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C381-F228-4D4B-BA6F-98F87B7D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41AB-CA5A-41E6-A70E-4C484897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B3CAA-599D-4363-A4AE-398EA6C0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F949-2BAF-4542-A9A5-F1B81F35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C3BCE-DC75-4B2A-83E4-9D6DFBD6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6D88D-DAA2-41AE-BD18-AFDAC1B5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5E035-C41D-4C3F-8955-CA5B0C73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4B70B-A20D-4010-92A3-8A981040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FB2D0-C024-4A72-B679-A4878845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5EBC-260D-4231-BCF5-A18470CB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0D75-D352-414E-838C-3518E4E9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47EFC-91E9-4F76-9965-EA93221C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98DD7-DC45-4AA6-AF0A-383B024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0B60-AC50-4F49-8B80-4E158740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2C4DA-175F-4571-82EA-8110C37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8C3ED-7CC1-4FD9-82BD-5A357054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BD68E-D7D0-4528-BF8D-A7D5D1D4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4F133-F7E7-4C4C-B4A3-FE95AEF6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E87C4-92B6-45D7-BC59-0CEAEB92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87446-84AE-488E-ABF7-4D2446F4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D8AD-A288-4746-B187-F0E4ADE9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82FF4-21CA-42F0-9100-71D38C7C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B964-DF43-4E8B-8EFC-1FC542D7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BD240-143A-4EC8-ABD0-FE3BC7CD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FE12-E0A3-45E4-8A59-CA9A1739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CEBF0-71D1-4B81-83F7-A151B577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E0336-47E3-444C-9D5E-3DA56A4E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D5EB-1749-4481-887F-F708FCA1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6A703-6473-4C15-BFDB-9BF9B95E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74E6B-9154-482F-92B4-C0739639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D3538-5957-4C82-855E-D5713F68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F100-0613-4D6D-AC5D-6B197B85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E8054-59DE-47C6-A948-70FDB930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E04AF-4DBF-4995-98B9-9B09202E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B8BD9-541B-4BF3-BA21-521A39BA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BE11A-2C4F-4498-AA7D-B1E623B1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1BEA9-92D6-4280-A6A6-1F4AA3CB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70541-D991-4D01-BA78-E2F0F0D2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1A2D0-C148-41D9-BDDC-E46AD2F3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1A645-9A78-44B0-9761-F0A98495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66530-B6E1-4808-B30C-3EF96AB5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59B43-D35F-43EF-B42E-646E2CC8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792-B4C2-47AF-98BB-405F63F8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67837-B4A3-4AA2-B753-D39ED635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6970C-D92A-4063-B458-30E65B76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FF232-B539-4EEF-9961-06065B97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175E9-A6C0-4E35-ADC7-436CADAB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D9E5B-0793-4E79-8222-459AB66B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FDD9E-4110-4375-88F4-B5C493DF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48147-B8D9-4FD8-AA86-F3928BC8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24B8A-3B2D-4F2C-A631-781F6A83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EF11-0249-41C3-95DF-761F9307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39EE9-927D-49AF-A5CC-B81EA2F3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770-20ED-499B-87C4-DCAA8238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DE6EB-957A-4EE0-ABDB-D77566AA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4706-FEDB-4602-9BA9-7A4F68A8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BA9E0-59BE-4A17-B7CA-89F86EDA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A33E6-88B9-4B26-A034-BBF86BFE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CA634-45CD-48B8-895D-D4ED2838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4E62C-19BE-42DB-8023-B115B401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C941B-1C40-4187-BA36-FDCA0E99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C0C01-5563-4F33-AD37-360853F1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70402-9DBF-433C-B7D4-D3ABCB82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45638-8C13-405F-A999-2C4CC456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920-1663-42F0-8065-CFB0E40A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1364C-692C-444A-AE42-F07AC58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25C42-E25F-48DE-95DC-990EAA14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962E5-F0CB-40AD-B204-02638FD7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36380-E2F2-48C9-A3EC-436197F1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AEFB3-D42D-49B5-A65B-88CD4E7E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39CC9-8AD4-461A-AE4F-7DA25CA3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8F24F-70A2-4B01-B1F1-F3B58C31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Łącznik prostoliniowy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09F0-7283-463C-9C9F-C0B8B84F391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Łącznik prostoliniowy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66DF-1188-43B9-BA09-071DD1D9F41F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EE7A-404A-446D-AF31-89D16E349E3E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7F44-B732-4986-845B-9939E064EEA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A2C6-3D39-428F-9D66-F2FE6CEA11D9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ójkąt prostokątny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Łącznik prostoliniowy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123-2146-44B8-801D-7254A6C724F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EC84-7D15-44B7-AC46-39C0B49D74E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ójkąt prostokątny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Łącznik prostoliniowy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10E6-12E2-4B80-A77F-6C8E812D007E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ytuł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825480" y="1481040"/>
            <a:ext cx="7493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745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816120" y="1481040"/>
            <a:ext cx="7511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1158840" y="1481040"/>
            <a:ext cx="682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457200" y="1625760"/>
            <a:ext cx="82296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623880" y="1481040"/>
            <a:ext cx="789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"/>
          <p:cNvPicPr/>
          <p:nvPr/>
        </p:nvPicPr>
        <p:blipFill>
          <a:blip r:embed="rId2"/>
          <a:stretch/>
        </p:blipFill>
        <p:spPr>
          <a:xfrm>
            <a:off x="457200" y="1486080"/>
            <a:ext cx="82296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57200" y="2171880"/>
            <a:ext cx="8229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"/>
          <p:cNvPicPr/>
          <p:nvPr/>
        </p:nvPicPr>
        <p:blipFill>
          <a:blip r:embed="rId2"/>
          <a:stretch/>
        </p:blipFill>
        <p:spPr>
          <a:xfrm>
            <a:off x="465120" y="1481040"/>
            <a:ext cx="8213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457200" y="2271600"/>
            <a:ext cx="82296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457200" y="1798560"/>
            <a:ext cx="82296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ytuł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1004760" y="1481040"/>
            <a:ext cx="713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6:27:13Z</dcterms:created>
  <dc:creator>Ania</dc:creator>
  <dc:description/>
  <dc:language>en-US</dc:language>
  <cp:lastModifiedBy>Ania</cp:lastModifiedBy>
  <dcterms:modified xsi:type="dcterms:W3CDTF">2013-07-10T06:49:14Z</dcterms:modified>
  <cp:revision>9</cp:revision>
  <dc:subject/>
  <dc:title>POTĘGI I PIERWIASTKI</dc:title>
</cp:coreProperties>
</file>